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9B0-E1D6-4449-B255-FE12622F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92C-D835-4974-B530-EA87BA9A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C91-F9F7-4967-868C-46127F9C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812-159C-4A5A-BF9B-1B6F3544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583-2526-463D-90C2-F0E17EC8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B62-8232-4D19-9023-907D4D24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891-645B-40A8-BA73-CE804EAC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6E9-E34C-4F43-9DC2-7425CF36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5FD-DFF6-4271-A8DF-181879B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9E0-37A1-4A90-85E0-0A81C5FB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2E4-65AD-4EAC-891C-53481AFC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7D3-75FB-44C8-8E9C-DC10C30A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22FB-5E9B-4DA3-85E8-AEEFFB5F3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8 Z vesmírnej sláv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iel j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esmírnej slávy svetiel j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ri nám v ústre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pozdrav lásky Tvorcu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jeho dobr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chvatný priestor nad zem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Božiu zvest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tvorstvom svojou veleb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vetov kraľ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dolia, stráne, horstiev p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všetko zjavuje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ž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vorca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priek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riechu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ás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tento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voju lásku vyspie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abý je hlas i c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obeť chvály požehn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chce ťa veleb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02:35Z</dcterms:modified>
  <cp:revision>29</cp:revision>
  <dc:subject/>
  <dc:title>Je veľký náš Pán, on slávy je Kráľ Nech do všetkých strán  spev vrúcnych znie chvál.</dc:title>
</cp:coreProperties>
</file>